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7A295-2706-4254-8FDC-7A67681B58E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ajeev Alur, David L. Dill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8083-B797-475F-87EC-8E6ED1F30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3EE0-1FAD-4F30-84E3-9EFF5A78C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BA13-DDF8-42FD-9738-FCEFCBC33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84CF-7219-4E29-BD82-C097A1FBA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88C50-BF48-4726-A319-76C548BFC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F8959-3795-437E-BEF3-0446D1F66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E1A83-69EF-4BA6-86FF-F0332D096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DD90D-BDA3-4928-A500-EE373A3D6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50626-17DA-455F-BF56-379087EC0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37CF7-AA36-4432-8A3F-C75D06F47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44A53-37D2-4B9E-913E-2E3F0F5D8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4566-E623-4D67-8654-17CC3B4A3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1E6F1-0AE5-4F75-BE38-A489E414E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1D6F6-243D-4123-8299-9651FFE06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B738D-8101-4E34-85B6-D1797EE88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3F961-0C1D-4E0B-A5C0-59A0EF34C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4B0CF-F7E0-4A0B-A10C-C586AB83F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00FA-864D-405E-887A-2779ED132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5F70-495A-47ED-B042-FF3927AE6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4815-05C3-4269-BF24-6AF3FD050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37D8-983A-42DD-BE8D-A0BE769A8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86EA-C9C9-4993-971A-F78040381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8E8F-480C-418B-B7F9-97404DD9C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E600-3EEC-4BC1-A590-036F60133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63320-5B8D-4C9F-B398-4D09C39073B8}" type="slidenum">
              <a:rPr b="0" lang="zh-CN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18A0A-067C-4F3A-8037-DBCB226FE670}" type="slidenum">
              <a:rPr b="0" lang="zh-CN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Introduction to Timed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7772760" y="348948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Gat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47920" y="432756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219320" y="1889280"/>
            <a:ext cx="38088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209680" y="2879640"/>
            <a:ext cx="38124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188928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44080" y="23464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xi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991080" y="150804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fa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972160" y="150804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nea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210040" y="32004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048120" y="23464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nt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904760" y="196524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x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6880" y="34894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Trai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819520" y="265104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x &gt; 2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600200" y="2041560"/>
            <a:ext cx="152388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590560" y="2270160"/>
            <a:ext cx="685800" cy="76212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 flipV="1">
            <a:off x="1447920" y="2269800"/>
            <a:ext cx="761760" cy="76212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504040" y="2803680"/>
            <a:ext cx="38880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059600" y="2803680"/>
            <a:ext cx="38880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059600" y="1736640"/>
            <a:ext cx="38880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504040" y="1736640"/>
            <a:ext cx="38880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49080" y="14320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ow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238880" y="20732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dow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954320" y="19969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up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048720" y="265104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ais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48000" y="181296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y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803120" y="227016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y &gt;=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048000" y="303228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y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892840" y="1889280"/>
            <a:ext cx="116676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292880" y="211788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5892480" y="3032280"/>
            <a:ext cx="116676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5659560" y="211752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648320" y="1432080"/>
            <a:ext cx="3657600" cy="205740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380920" y="42829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ow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268160" y="48610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xi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961800" y="364176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657600" y="5013360"/>
            <a:ext cx="38088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81480" y="501336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181480" y="394668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657600" y="3946680"/>
            <a:ext cx="38088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075480" y="428292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ais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190400" y="402264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z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190400" y="524196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z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038480" y="4098960"/>
            <a:ext cx="114300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432756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4038120" y="5241960"/>
            <a:ext cx="114300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3809880" y="432720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19520" y="3641760"/>
            <a:ext cx="3657600" cy="198108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990720" y="1432080"/>
            <a:ext cx="3429000" cy="205740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257800" y="4038480"/>
            <a:ext cx="228600" cy="228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200400" y="1981080"/>
            <a:ext cx="228600" cy="228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562720" y="1812960"/>
            <a:ext cx="228600" cy="228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675800" y="143208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905120" y="173664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410080" y="4511520"/>
            <a:ext cx="74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z =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990720" y="2530440"/>
            <a:ext cx="16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x &lt;= 5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558320" y="251460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&amp; y &lt;= 2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246800" y="230184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y &lt;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953600" y="13716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ope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315560" y="304812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closed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480" y="4602240"/>
            <a:ext cx="81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z &lt;= 1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rot="16200000">
            <a:off x="1965960" y="6061680"/>
            <a:ext cx="87120" cy="800280"/>
          </a:xfrm>
          <a:custGeom>
            <a:avLst/>
            <a:gdLst>
              <a:gd name="textAreaLeft" fmla="*/ 25560 w 87120"/>
              <a:gd name="textAreaRight" fmla="*/ 87480 w 87120"/>
              <a:gd name="textAreaTop" fmla="*/ 33120 h 800280"/>
              <a:gd name="textAreaBottom" fmla="*/ 767160 h 800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609200" y="6461280"/>
            <a:ext cx="81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z =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09680" y="6308640"/>
            <a:ext cx="114300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628640" y="6308640"/>
            <a:ext cx="76860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1552680" y="592776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942120" y="554688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09680" y="6384960"/>
            <a:ext cx="820584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31680" y="96840"/>
            <a:ext cx="715788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7772760" y="348948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Gat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447920" y="432756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219320" y="1889280"/>
            <a:ext cx="38088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209680" y="2879640"/>
            <a:ext cx="38124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124080" y="188928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144080" y="23464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xi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1080" y="150804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fa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972160" y="150804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nea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210040" y="32004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048120" y="23464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nt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04760" y="196524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x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86880" y="34894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Trai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819520" y="265104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x &gt; 2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600200" y="2041560"/>
            <a:ext cx="152388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2590560" y="2270160"/>
            <a:ext cx="685800" cy="76212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 flipV="1">
            <a:off x="1447920" y="2269800"/>
            <a:ext cx="761760" cy="76212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504040" y="2803680"/>
            <a:ext cx="38880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059600" y="2803680"/>
            <a:ext cx="38880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059600" y="1736640"/>
            <a:ext cx="38880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504040" y="1736640"/>
            <a:ext cx="38880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049080" y="14320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ow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238880" y="20732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dow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954320" y="19969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up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48720" y="265104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ais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048000" y="181296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y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803120" y="227016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y &gt;=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048000" y="303228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y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892840" y="1889280"/>
            <a:ext cx="116676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292880" y="211788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5892480" y="3032280"/>
            <a:ext cx="116676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5659560" y="211752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648320" y="1432080"/>
            <a:ext cx="3657600" cy="205740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380920" y="42829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ow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268160" y="48610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xi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961800" y="364176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657600" y="5013360"/>
            <a:ext cx="38088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181480" y="501336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181480" y="394668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657600" y="3946680"/>
            <a:ext cx="38088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075480" y="428292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ais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190400" y="402264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z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190400" y="524196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z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038480" y="4098960"/>
            <a:ext cx="114300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410080" y="432756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4038120" y="5241960"/>
            <a:ext cx="114300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3809880" y="432720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819520" y="3641760"/>
            <a:ext cx="3657600" cy="198108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990720" y="1432080"/>
            <a:ext cx="3429000" cy="205740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257800" y="5105520"/>
            <a:ext cx="228600" cy="228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200400" y="1981080"/>
            <a:ext cx="228600" cy="228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162920" y="1828800"/>
            <a:ext cx="228600" cy="228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675800" y="143208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905120" y="173664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410080" y="4511520"/>
            <a:ext cx="74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z =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990720" y="2530440"/>
            <a:ext cx="16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x &lt;= 5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558320" y="251460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&amp; y &lt;= 2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46800" y="230184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y &lt;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953600" y="13716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ope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315560" y="304812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closed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048480" y="4602240"/>
            <a:ext cx="81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z &lt;= 1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rot="16200000">
            <a:off x="1965960" y="6061680"/>
            <a:ext cx="87120" cy="800280"/>
          </a:xfrm>
          <a:custGeom>
            <a:avLst/>
            <a:gdLst>
              <a:gd name="textAreaLeft" fmla="*/ 25560 w 87120"/>
              <a:gd name="textAreaRight" fmla="*/ 87480 w 87120"/>
              <a:gd name="textAreaTop" fmla="*/ 33120 h 800280"/>
              <a:gd name="textAreaBottom" fmla="*/ 767160 h 800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609200" y="6461280"/>
            <a:ext cx="81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z =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rot="16200000">
            <a:off x="2826360" y="6072480"/>
            <a:ext cx="42840" cy="727200"/>
          </a:xfrm>
          <a:custGeom>
            <a:avLst/>
            <a:gdLst>
              <a:gd name="textAreaLeft" fmla="*/ 12600 w 42840"/>
              <a:gd name="textAreaRight" fmla="*/ 43200 w 42840"/>
              <a:gd name="textAreaTop" fmla="*/ 30240 h 727200"/>
              <a:gd name="textAreaBottom" fmla="*/ 696960 h 72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355840" y="6438960"/>
            <a:ext cx="89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y &lt;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09680" y="6308640"/>
            <a:ext cx="114300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628640" y="6308640"/>
            <a:ext cx="76860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1552680" y="592776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2435400" y="592776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942120" y="554688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131200" y="55468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ow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09680" y="6384960"/>
            <a:ext cx="820584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482920" y="6303960"/>
            <a:ext cx="72540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31680" y="96840"/>
            <a:ext cx="715788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 rot="16200000">
            <a:off x="1965960" y="6061680"/>
            <a:ext cx="87120" cy="800280"/>
          </a:xfrm>
          <a:custGeom>
            <a:avLst/>
            <a:gdLst>
              <a:gd name="textAreaLeft" fmla="*/ 25560 w 87120"/>
              <a:gd name="textAreaRight" fmla="*/ 87480 w 87120"/>
              <a:gd name="textAreaTop" fmla="*/ 33120 h 800280"/>
              <a:gd name="textAreaBottom" fmla="*/ 767160 h 800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609200" y="6461280"/>
            <a:ext cx="81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z =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7772760" y="348948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Gat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447920" y="432756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219320" y="1889280"/>
            <a:ext cx="38088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209680" y="2879640"/>
            <a:ext cx="38124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124080" y="188928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144080" y="23464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xi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991080" y="150804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fa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72160" y="150804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nea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210040" y="32004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048120" y="23464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nt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904760" y="196524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x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86880" y="34894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Trai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819520" y="265104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x &gt; 2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600200" y="2041560"/>
            <a:ext cx="152388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2590560" y="2270160"/>
            <a:ext cx="685800" cy="76212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H="1" flipV="1">
            <a:off x="1447920" y="2269800"/>
            <a:ext cx="761760" cy="76212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504040" y="2803680"/>
            <a:ext cx="38880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059600" y="2803680"/>
            <a:ext cx="38880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059600" y="1736640"/>
            <a:ext cx="38880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4040" y="1736640"/>
            <a:ext cx="38880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049080" y="14320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ow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238880" y="20732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dow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954320" y="19969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up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048720" y="265104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ais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048000" y="181296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y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803120" y="227016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y &gt;=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048000" y="303228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y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892840" y="1889280"/>
            <a:ext cx="116676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292880" y="211788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5892480" y="3032280"/>
            <a:ext cx="116676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5659560" y="211752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648320" y="1432080"/>
            <a:ext cx="3657600" cy="205740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380920" y="42829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ow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268160" y="48610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xi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961800" y="364176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657600" y="5013360"/>
            <a:ext cx="38088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181480" y="501336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181480" y="394668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657600" y="3946680"/>
            <a:ext cx="38088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075480" y="428292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ais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190400" y="402264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z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190400" y="524196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z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038480" y="4098960"/>
            <a:ext cx="114300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410080" y="432756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4038120" y="5241960"/>
            <a:ext cx="114300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3809880" y="432720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819520" y="3641760"/>
            <a:ext cx="3657600" cy="198108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990720" y="1432080"/>
            <a:ext cx="3429000" cy="205740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257800" y="5105520"/>
            <a:ext cx="228600" cy="228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200400" y="1981080"/>
            <a:ext cx="228600" cy="228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162920" y="2895480"/>
            <a:ext cx="228600" cy="228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675800" y="143208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905120" y="173664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410080" y="4511520"/>
            <a:ext cx="74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z =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990720" y="2530440"/>
            <a:ext cx="16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x &lt;= 5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558320" y="251460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&amp; y &lt;= 2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246800" y="230184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y &lt;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953600" y="13716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ope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315560" y="304812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closed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048480" y="4602240"/>
            <a:ext cx="81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z &lt;= 1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rot="16200000">
            <a:off x="2826360" y="6072480"/>
            <a:ext cx="42840" cy="727200"/>
          </a:xfrm>
          <a:custGeom>
            <a:avLst/>
            <a:gdLst>
              <a:gd name="textAreaLeft" fmla="*/ 12600 w 42840"/>
              <a:gd name="textAreaRight" fmla="*/ 43200 w 42840"/>
              <a:gd name="textAreaTop" fmla="*/ 30240 h 727200"/>
              <a:gd name="textAreaBottom" fmla="*/ 696960 h 72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355840" y="6438960"/>
            <a:ext cx="89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y &lt;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09680" y="6308640"/>
            <a:ext cx="114300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628640" y="6308640"/>
            <a:ext cx="76860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1552680" y="592776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2435400" y="592776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942120" y="554688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131200" y="55468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ow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409680" y="6384960"/>
            <a:ext cx="820584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3255840" y="591192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3316320" y="6297120"/>
            <a:ext cx="799920" cy="180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482920" y="6303960"/>
            <a:ext cx="72540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901960" y="55818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dow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932040" y="96840"/>
            <a:ext cx="7157880" cy="10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 4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31680" y="96840"/>
            <a:ext cx="715788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772760" y="348948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Gat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432756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219320" y="1889280"/>
            <a:ext cx="38088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209680" y="2879640"/>
            <a:ext cx="38124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124080" y="188928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144080" y="23464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xi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991080" y="150804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fa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972160" y="150804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nea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210040" y="32004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048120" y="23464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nt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904760" y="196524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x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86880" y="34894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Trai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819520" y="265104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x &gt; 2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600200" y="2041560"/>
            <a:ext cx="152388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2590560" y="2270160"/>
            <a:ext cx="685800" cy="76212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H="1" flipV="1">
            <a:off x="1447920" y="2269800"/>
            <a:ext cx="761760" cy="76212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504040" y="2803680"/>
            <a:ext cx="38880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059600" y="2803680"/>
            <a:ext cx="38880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7059600" y="1736640"/>
            <a:ext cx="38880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504040" y="1736640"/>
            <a:ext cx="38880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049080" y="14320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ow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238880" y="20732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dow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954320" y="19969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up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048720" y="265104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ais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048000" y="181296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y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803120" y="227016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y &gt;=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048000" y="303228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y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5892840" y="1889280"/>
            <a:ext cx="116676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292880" y="211788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5892480" y="3032280"/>
            <a:ext cx="116676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5659560" y="211752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648320" y="1432080"/>
            <a:ext cx="3657600" cy="205740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380920" y="42829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ow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268160" y="48610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xi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961800" y="364176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657600" y="5013360"/>
            <a:ext cx="38088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181480" y="501336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5181480" y="394668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3657600" y="3946680"/>
            <a:ext cx="38088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075480" y="428292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ais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190400" y="402264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z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4190400" y="524196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z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038480" y="4098960"/>
            <a:ext cx="114300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410080" y="432756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4038120" y="5241960"/>
            <a:ext cx="114300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3809880" y="432720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819520" y="3641760"/>
            <a:ext cx="3657600" cy="198108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990720" y="1432080"/>
            <a:ext cx="3429000" cy="205740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257800" y="5105520"/>
            <a:ext cx="228600" cy="228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286000" y="2971800"/>
            <a:ext cx="228600" cy="228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7142040" y="2905200"/>
            <a:ext cx="228600" cy="228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675800" y="143208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905120" y="173664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410080" y="4511520"/>
            <a:ext cx="74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z =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990720" y="2575080"/>
            <a:ext cx="16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x &lt;= 5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558320" y="251460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&amp; y &lt;= 2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246800" y="230184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y &lt;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953600" y="13716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ope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315560" y="304812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closed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048480" y="4602240"/>
            <a:ext cx="81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z &lt;= 1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rot="16200000">
            <a:off x="2854080" y="5168520"/>
            <a:ext cx="42840" cy="2604960"/>
          </a:xfrm>
          <a:custGeom>
            <a:avLst/>
            <a:gdLst>
              <a:gd name="textAreaLeft" fmla="*/ 12600 w 42840"/>
              <a:gd name="textAreaRight" fmla="*/ 43200 w 42840"/>
              <a:gd name="textAreaTop" fmla="*/ 108360 h 2604960"/>
              <a:gd name="textAreaBottom" fmla="*/ 2496600 h 2604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595600" y="646128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x &gt; 2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409680" y="6308640"/>
            <a:ext cx="114300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628640" y="6308640"/>
            <a:ext cx="76860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1552680" y="592776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flipV="1">
            <a:off x="2435400" y="592776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4168800" y="593892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942120" y="554688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131200" y="55468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ow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787920" y="55576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nt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09680" y="6384960"/>
            <a:ext cx="820584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3255840" y="591192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 flipV="1">
            <a:off x="3316320" y="6297120"/>
            <a:ext cx="799920" cy="180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2482920" y="6303960"/>
            <a:ext cx="72540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2901960" y="55818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dow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4246560" y="6294600"/>
            <a:ext cx="1100160" cy="144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931680" y="96840"/>
            <a:ext cx="715788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7772760" y="348948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Gat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447920" y="432756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219320" y="1889280"/>
            <a:ext cx="38088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209680" y="2879640"/>
            <a:ext cx="38124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188928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144080" y="23464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xi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991080" y="150804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fa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972160" y="150804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nea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210040" y="32004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3048120" y="23464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nt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904760" y="196524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x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86880" y="34894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Trai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819520" y="265104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x &gt; 2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600200" y="2041560"/>
            <a:ext cx="152388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2590560" y="2270160"/>
            <a:ext cx="685800" cy="76212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H="1" flipV="1">
            <a:off x="1447920" y="2269800"/>
            <a:ext cx="761760" cy="76212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504040" y="2803680"/>
            <a:ext cx="38880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7059600" y="2803680"/>
            <a:ext cx="38880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7059600" y="1736640"/>
            <a:ext cx="38880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504040" y="1736640"/>
            <a:ext cx="38880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049080" y="14320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ow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7238880" y="20732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dow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954320" y="19969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up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048720" y="265104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ais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048000" y="181296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y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4803120" y="227016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y &gt;=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048000" y="303228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y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892840" y="1889280"/>
            <a:ext cx="116676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7292880" y="211788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H="1">
            <a:off x="5892480" y="3032280"/>
            <a:ext cx="116676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5659560" y="211752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1432080"/>
            <a:ext cx="3657600" cy="205740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380920" y="42829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ow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268160" y="48610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xi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961800" y="364176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657600" y="5013360"/>
            <a:ext cx="38088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181480" y="501336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181480" y="394668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657600" y="3946680"/>
            <a:ext cx="38088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075480" y="428292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ais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190400" y="402264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z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190400" y="524196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z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038480" y="4098960"/>
            <a:ext cx="114300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410080" y="432756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4038120" y="5241960"/>
            <a:ext cx="114300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3809880" y="432720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2819520" y="3641760"/>
            <a:ext cx="3657600" cy="198108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990720" y="1432080"/>
            <a:ext cx="3429000" cy="205740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728880" y="5094360"/>
            <a:ext cx="228600" cy="228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285920" y="1992240"/>
            <a:ext cx="228600" cy="228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142040" y="2905200"/>
            <a:ext cx="228600" cy="228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675800" y="143208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905120" y="173664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410080" y="4511520"/>
            <a:ext cx="74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z =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990720" y="2575080"/>
            <a:ext cx="16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x &lt;= 5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4558320" y="251460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&amp; y &lt;= 2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7246800" y="230184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y &lt;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953600" y="13716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ope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7315560" y="304812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closed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048480" y="4602240"/>
            <a:ext cx="81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z &lt;= 1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 rot="16200000">
            <a:off x="3450960" y="4549320"/>
            <a:ext cx="65160" cy="3821040"/>
          </a:xfrm>
          <a:custGeom>
            <a:avLst/>
            <a:gdLst>
              <a:gd name="textAreaLeft" fmla="*/ 19080 w 65160"/>
              <a:gd name="textAreaRight" fmla="*/ 65160 w 65160"/>
              <a:gd name="textAreaTop" fmla="*/ 159120 h 3821040"/>
              <a:gd name="textAreaBottom" fmla="*/ 3661920 h 3821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991600" y="6462720"/>
            <a:ext cx="18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x &gt; 2 &amp; x &lt;= 5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rot="16200000">
            <a:off x="5781600" y="6216120"/>
            <a:ext cx="74520" cy="604800"/>
          </a:xfrm>
          <a:custGeom>
            <a:avLst/>
            <a:gdLst>
              <a:gd name="textAreaLeft" fmla="*/ 21960 w 74520"/>
              <a:gd name="textAreaRight" fmla="*/ 74880 w 74520"/>
              <a:gd name="textAreaTop" fmla="*/ 25200 h 604800"/>
              <a:gd name="textAreaBottom" fmla="*/ 579600 h 60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416920" y="646128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z &lt;=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409680" y="6308640"/>
            <a:ext cx="114300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628640" y="6308640"/>
            <a:ext cx="76860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1552680" y="592776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 flipV="1">
            <a:off x="2435400" y="592776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V="1">
            <a:off x="4168800" y="593892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942120" y="554688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131200" y="55468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ow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787920" y="55576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nt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09680" y="6384960"/>
            <a:ext cx="820584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 flipV="1">
            <a:off x="3255840" y="591192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 flipV="1">
            <a:off x="3316320" y="6297120"/>
            <a:ext cx="799920" cy="180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2482920" y="6303960"/>
            <a:ext cx="72540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2901960" y="55818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dow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 flipV="1">
            <a:off x="5398920" y="593568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 flipV="1">
            <a:off x="4246560" y="6294600"/>
            <a:ext cx="1100160" cy="144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060520" y="556884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xi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 flipV="1">
            <a:off x="5494320" y="6296040"/>
            <a:ext cx="619200" cy="144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31680" y="96840"/>
            <a:ext cx="715788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rot="16200000">
            <a:off x="3450960" y="4549320"/>
            <a:ext cx="65160" cy="3821040"/>
          </a:xfrm>
          <a:custGeom>
            <a:avLst/>
            <a:gdLst>
              <a:gd name="textAreaLeft" fmla="*/ 19080 w 65160"/>
              <a:gd name="textAreaRight" fmla="*/ 65160 w 65160"/>
              <a:gd name="textAreaTop" fmla="*/ 159120 h 3821040"/>
              <a:gd name="textAreaBottom" fmla="*/ 3661920 h 3821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991600" y="6462720"/>
            <a:ext cx="18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x &gt; 2 &amp; x &lt;= 5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7772760" y="348948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Gat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1447920" y="432756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1219320" y="1889280"/>
            <a:ext cx="38088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2209680" y="2879640"/>
            <a:ext cx="38124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3124080" y="188928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144080" y="23464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xi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991080" y="150804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fa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2972160" y="150804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nea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2210040" y="32004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048120" y="23464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nt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904760" y="196524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x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86880" y="34894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Trai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2819520" y="265104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x &gt; 2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600200" y="2041560"/>
            <a:ext cx="152388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 flipH="1">
            <a:off x="2590560" y="2270160"/>
            <a:ext cx="685800" cy="76212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 flipH="1" flipV="1">
            <a:off x="1447920" y="2269800"/>
            <a:ext cx="761760" cy="76212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504040" y="2803680"/>
            <a:ext cx="38880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7059600" y="2803680"/>
            <a:ext cx="38880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7059600" y="1736640"/>
            <a:ext cx="38880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5504040" y="1736640"/>
            <a:ext cx="38880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6049080" y="14320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ow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7238880" y="20732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dow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954320" y="19969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up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6048720" y="265104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ais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6048000" y="181296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y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4803120" y="227016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y &gt;=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048000" y="303228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y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892840" y="1889280"/>
            <a:ext cx="116676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7292880" y="211788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 flipH="1">
            <a:off x="5892480" y="3032280"/>
            <a:ext cx="116676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 flipV="1">
            <a:off x="5659560" y="211752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4648320" y="1432080"/>
            <a:ext cx="3657600" cy="205740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5380920" y="42829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ow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268160" y="48610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xi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3961800" y="364176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657600" y="5013360"/>
            <a:ext cx="38088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5181480" y="501336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5181480" y="394668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3657600" y="3946680"/>
            <a:ext cx="38088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3075480" y="428292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ais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190400" y="402264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z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4190400" y="524196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z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4038480" y="4098960"/>
            <a:ext cx="114300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5410080" y="432756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 flipH="1">
            <a:off x="4038120" y="5241960"/>
            <a:ext cx="114300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 flipV="1">
            <a:off x="3809880" y="432720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2819520" y="3641760"/>
            <a:ext cx="3657600" cy="198108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990720" y="1432080"/>
            <a:ext cx="3429000" cy="205740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3740040" y="3986280"/>
            <a:ext cx="228600" cy="228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285920" y="1992240"/>
            <a:ext cx="228600" cy="228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5572080" y="2862360"/>
            <a:ext cx="228600" cy="228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1675800" y="143208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1905120" y="173664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410080" y="4511520"/>
            <a:ext cx="74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z =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990720" y="2575080"/>
            <a:ext cx="16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x &lt;= 5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4558320" y="251460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&amp; y &lt;= 2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7246800" y="230184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y &lt;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4953600" y="13716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ope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7315560" y="304812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closed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3048480" y="4602240"/>
            <a:ext cx="81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z &lt;= 1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 rot="16200000">
            <a:off x="5781600" y="6216120"/>
            <a:ext cx="74520" cy="604800"/>
          </a:xfrm>
          <a:custGeom>
            <a:avLst/>
            <a:gdLst>
              <a:gd name="textAreaLeft" fmla="*/ 21960 w 74520"/>
              <a:gd name="textAreaRight" fmla="*/ 74880 w 74520"/>
              <a:gd name="textAreaTop" fmla="*/ 25200 h 604800"/>
              <a:gd name="textAreaBottom" fmla="*/ 579600 h 60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5416920" y="646128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z &lt;=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409680" y="6308640"/>
            <a:ext cx="114300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1628640" y="6308640"/>
            <a:ext cx="76860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 flipV="1">
            <a:off x="1552680" y="592776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2435400" y="592776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 flipV="1">
            <a:off x="4168800" y="593892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942120" y="554688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2131200" y="55468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ow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3787920" y="55576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nt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409680" y="6384960"/>
            <a:ext cx="820584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 flipV="1">
            <a:off x="3255840" y="591192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 flipV="1">
            <a:off x="3316320" y="6297120"/>
            <a:ext cx="799920" cy="180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2482920" y="6303960"/>
            <a:ext cx="72540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2901960" y="55818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dow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 flipV="1">
            <a:off x="5398920" y="593568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 flipV="1">
            <a:off x="4246560" y="6294600"/>
            <a:ext cx="1100160" cy="144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5060520" y="556884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xi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5494320" y="6296040"/>
            <a:ext cx="619200" cy="144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 flipV="1">
            <a:off x="6153120" y="5936760"/>
            <a:ext cx="0" cy="38124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813640" y="557064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ais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6211800" y="6286680"/>
            <a:ext cx="898560" cy="288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931680" y="96840"/>
            <a:ext cx="715788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409680" y="6308640"/>
            <a:ext cx="114300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1628640" y="6308640"/>
            <a:ext cx="76860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 flipV="1">
            <a:off x="1552680" y="592776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 flipV="1">
            <a:off x="2435400" y="592776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 flipV="1">
            <a:off x="4168800" y="593892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942120" y="554688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2131200" y="55468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ow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3787920" y="55576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nt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409680" y="6384960"/>
            <a:ext cx="820584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rot="16200000">
            <a:off x="3490920" y="4587480"/>
            <a:ext cx="42840" cy="3767400"/>
          </a:xfrm>
          <a:custGeom>
            <a:avLst/>
            <a:gdLst>
              <a:gd name="textAreaLeft" fmla="*/ 12600 w 42840"/>
              <a:gd name="textAreaRight" fmla="*/ 43200 w 42840"/>
              <a:gd name="textAreaTop" fmla="*/ 156960 h 3767400"/>
              <a:gd name="textAreaBottom" fmla="*/ 3610440 h 376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3047040" y="6462720"/>
            <a:ext cx="18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x &gt; 2 &amp; x &lt;= 5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7772760" y="348948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Gat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1447920" y="432756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219320" y="1889280"/>
            <a:ext cx="38088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2209680" y="2879640"/>
            <a:ext cx="38124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124080" y="188928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1144080" y="23464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xi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991080" y="150804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fa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2972160" y="150804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nea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2210040" y="320040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048120" y="23464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nt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1904760" y="196524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x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686880" y="34894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Trai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2819520" y="265104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x &gt; 2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1600200" y="2041560"/>
            <a:ext cx="152388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 flipH="1">
            <a:off x="2590560" y="2270160"/>
            <a:ext cx="685800" cy="76212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 flipH="1" flipV="1">
            <a:off x="1447920" y="2269800"/>
            <a:ext cx="761760" cy="76212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5504040" y="2803680"/>
            <a:ext cx="38880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7059600" y="2803680"/>
            <a:ext cx="38880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7059600" y="1736640"/>
            <a:ext cx="38880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5504040" y="1736640"/>
            <a:ext cx="38880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6049080" y="14320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ow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7238880" y="20732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dow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954320" y="19969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up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6048720" y="265104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ais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6048000" y="181296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y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4803120" y="227016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y &gt;=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6048000" y="303228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y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5892840" y="1889280"/>
            <a:ext cx="116676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7292880" y="211788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 flipH="1">
            <a:off x="5892480" y="3032280"/>
            <a:ext cx="116676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5659560" y="211752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4648320" y="1432080"/>
            <a:ext cx="3657600" cy="205740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5380920" y="42829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ow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4268160" y="48610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xi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3961800" y="364176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3657600" y="5013360"/>
            <a:ext cx="38088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5181480" y="501336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5181480" y="394668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3657600" y="3946680"/>
            <a:ext cx="38088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3075480" y="428292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ais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4190400" y="402264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z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4190400" y="524196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z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4038480" y="4098960"/>
            <a:ext cx="114300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5410080" y="432756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 flipH="1">
            <a:off x="4038120" y="5241960"/>
            <a:ext cx="114300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 flipV="1">
            <a:off x="3809880" y="432720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2819520" y="3641760"/>
            <a:ext cx="3657600" cy="198108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990720" y="1432080"/>
            <a:ext cx="3429000" cy="205740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3740040" y="3986280"/>
            <a:ext cx="228600" cy="228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1285920" y="1992240"/>
            <a:ext cx="228600" cy="228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5583240" y="1808280"/>
            <a:ext cx="228600" cy="228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1675800" y="143208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1905120" y="173664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5410080" y="4511520"/>
            <a:ext cx="74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z =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990720" y="2575080"/>
            <a:ext cx="16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x &lt;= 5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4558320" y="251460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&amp; y &lt;= 2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7246800" y="230184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y &lt;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4953600" y="13716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ope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7315560" y="304812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closed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3048480" y="4602240"/>
            <a:ext cx="81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z &lt;= 1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3255840" y="591192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 flipV="1">
            <a:off x="3316320" y="6297120"/>
            <a:ext cx="799920" cy="180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2482920" y="6303960"/>
            <a:ext cx="72540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901960" y="55818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dow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 flipV="1">
            <a:off x="5398920" y="593568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4246560" y="6294600"/>
            <a:ext cx="1100160" cy="144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5060520" y="556884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xi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 flipV="1">
            <a:off x="5494320" y="6296040"/>
            <a:ext cx="619200" cy="144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 rot="16200000">
            <a:off x="5773680" y="6154200"/>
            <a:ext cx="74520" cy="604800"/>
          </a:xfrm>
          <a:custGeom>
            <a:avLst/>
            <a:gdLst>
              <a:gd name="textAreaLeft" fmla="*/ 21960 w 74520"/>
              <a:gd name="textAreaRight" fmla="*/ 74880 w 74520"/>
              <a:gd name="textAreaTop" fmla="*/ 25200 h 604800"/>
              <a:gd name="textAreaBottom" fmla="*/ 579600 h 60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 flipV="1">
            <a:off x="6153120" y="5936760"/>
            <a:ext cx="0" cy="38124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5813640" y="557064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ais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5364720" y="642132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z &lt;=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 flipV="1">
            <a:off x="6211800" y="6286680"/>
            <a:ext cx="898560" cy="288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 flipV="1">
            <a:off x="7128000" y="5927760"/>
            <a:ext cx="0" cy="380880"/>
          </a:xfrm>
          <a:prstGeom prst="line">
            <a:avLst/>
          </a:prstGeom>
          <a:ln w="2844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6789240" y="55609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up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 rot="16200000">
            <a:off x="6629400" y="5994360"/>
            <a:ext cx="85680" cy="927360"/>
          </a:xfrm>
          <a:custGeom>
            <a:avLst/>
            <a:gdLst>
              <a:gd name="textAreaLeft" fmla="*/ 25200 w 85680"/>
              <a:gd name="textAreaRight" fmla="*/ 86040 w 85680"/>
              <a:gd name="textAreaTop" fmla="*/ 38520 h 927360"/>
              <a:gd name="textAreaBottom" fmla="*/ 888840 h 927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6168960" y="6405480"/>
            <a:ext cx="187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y &gt;= 1 &amp; y&lt;=2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7192800" y="6276600"/>
            <a:ext cx="898560" cy="324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mal Definition of 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28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29"/>
                </a:solidFill>
                <a:latin typeface="Arial"/>
              </a:rPr>
              <a:t>A timed automata is a tuple &lt;</a:t>
            </a:r>
            <a:r>
              <a:rPr b="0" lang="zh-CN" sz="2400" spc="-1" strike="noStrike">
                <a:solidFill>
                  <a:srgbClr val="292929"/>
                </a:solidFill>
                <a:latin typeface="Arial"/>
                <a:ea typeface="Arial"/>
              </a:rPr>
              <a:t>∑, S, S</a:t>
            </a:r>
            <a:r>
              <a:rPr b="0" lang="zh-CN" sz="2400" spc="-1" strike="noStrike" baseline="-25000">
                <a:solidFill>
                  <a:srgbClr val="292929"/>
                </a:solidFill>
                <a:latin typeface="Arial"/>
                <a:ea typeface="Arial"/>
              </a:rPr>
              <a:t>0</a:t>
            </a:r>
            <a:r>
              <a:rPr b="0" lang="zh-CN" sz="2400" spc="-1" strike="noStrike">
                <a:solidFill>
                  <a:srgbClr val="292929"/>
                </a:solidFill>
                <a:latin typeface="Arial"/>
                <a:ea typeface="Arial"/>
              </a:rPr>
              <a:t>, C, E</a:t>
            </a:r>
            <a:r>
              <a:rPr b="0" lang="zh-CN" sz="2400" spc="-1" strike="noStrike">
                <a:solidFill>
                  <a:srgbClr val="292929"/>
                </a:solidFill>
                <a:latin typeface="Arial"/>
              </a:rPr>
              <a:t>&gt;, wher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92929"/>
                </a:solidFill>
                <a:latin typeface="Arial"/>
                <a:ea typeface="Arial"/>
              </a:rPr>
              <a:t>∑ </a:t>
            </a:r>
            <a:r>
              <a:rPr b="0" lang="zh-CN" sz="2000" spc="-1" strike="noStrike">
                <a:solidFill>
                  <a:srgbClr val="292929"/>
                </a:solidFill>
                <a:latin typeface="Arial"/>
                <a:ea typeface="Arial"/>
              </a:rPr>
              <a:t>is a finite set of alphabe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92929"/>
                </a:solidFill>
                <a:latin typeface="Arial"/>
                <a:ea typeface="Arial"/>
              </a:rPr>
              <a:t>S is a finite set of state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92929"/>
                </a:solidFill>
                <a:latin typeface="Arial"/>
                <a:ea typeface="Arial"/>
              </a:rPr>
              <a:t>S</a:t>
            </a:r>
            <a:r>
              <a:rPr b="0" lang="zh-CN" sz="2000" spc="-1" strike="noStrike" baseline="-25000">
                <a:solidFill>
                  <a:srgbClr val="292929"/>
                </a:solidFill>
                <a:latin typeface="Arial"/>
                <a:ea typeface="Arial"/>
              </a:rPr>
              <a:t>0</a:t>
            </a:r>
            <a:r>
              <a:rPr b="0" lang="zh-CN" sz="2000" spc="-1" strike="noStrike">
                <a:solidFill>
                  <a:srgbClr val="292929"/>
                </a:solidFill>
                <a:latin typeface="Arial"/>
                <a:ea typeface="Arial"/>
              </a:rPr>
              <a:t>      S is the set of start state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92929"/>
                </a:solidFill>
                <a:latin typeface="Arial"/>
                <a:ea typeface="Arial"/>
              </a:rPr>
              <a:t>C is a finite set of clock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92929"/>
                </a:solidFill>
                <a:latin typeface="Arial"/>
                <a:ea typeface="Arial"/>
              </a:rPr>
              <a:t>E                                    is a set of transitions. An edge &lt;</a:t>
            </a:r>
            <a:r>
              <a:rPr b="0" i="1" lang="zh-CN" sz="2000" spc="-1" strike="noStrike">
                <a:solidFill>
                  <a:srgbClr val="292929"/>
                </a:solidFill>
                <a:latin typeface="Arial"/>
                <a:ea typeface="Arial"/>
              </a:rPr>
              <a:t>s, s’, a, </a:t>
            </a:r>
            <a:r>
              <a:rPr b="0" i="1" lang="el-GR" sz="2000" spc="-1" strike="noStrike">
                <a:solidFill>
                  <a:srgbClr val="292929"/>
                </a:solidFill>
                <a:latin typeface="Arial"/>
                <a:ea typeface="Arial"/>
              </a:rPr>
              <a:t>λ</a:t>
            </a:r>
            <a:r>
              <a:rPr b="0" i="1" lang="zh-CN" sz="2000" spc="-1" strike="noStrike">
                <a:solidFill>
                  <a:srgbClr val="292929"/>
                </a:solidFill>
                <a:latin typeface="Arial"/>
                <a:ea typeface="Arial"/>
              </a:rPr>
              <a:t>, </a:t>
            </a:r>
            <a:r>
              <a:rPr b="0" i="1" lang="el-GR" sz="2000" spc="-1" strike="noStrike">
                <a:solidFill>
                  <a:srgbClr val="292929"/>
                </a:solidFill>
                <a:latin typeface="Arial"/>
                <a:ea typeface="Arial"/>
              </a:rPr>
              <a:t>δ</a:t>
            </a:r>
            <a:r>
              <a:rPr b="0" lang="zh-CN" sz="2000" spc="-1" strike="noStrike">
                <a:solidFill>
                  <a:srgbClr val="292929"/>
                </a:solidFill>
                <a:latin typeface="Arial"/>
                <a:ea typeface="Arial"/>
              </a:rPr>
              <a:t>&gt; represents a transition from </a:t>
            </a:r>
            <a:r>
              <a:rPr b="0" i="1" lang="zh-CN" sz="2000" spc="-1" strike="noStrike">
                <a:solidFill>
                  <a:srgbClr val="292929"/>
                </a:solidFill>
                <a:latin typeface="Arial"/>
                <a:ea typeface="Arial"/>
              </a:rPr>
              <a:t>s</a:t>
            </a:r>
            <a:r>
              <a:rPr b="0" lang="zh-CN" sz="2000" spc="-1" strike="noStrike">
                <a:solidFill>
                  <a:srgbClr val="292929"/>
                </a:solidFill>
                <a:latin typeface="Arial"/>
                <a:ea typeface="Arial"/>
              </a:rPr>
              <a:t> to </a:t>
            </a:r>
            <a:r>
              <a:rPr b="0" i="1" lang="zh-CN" sz="2000" spc="-1" strike="noStrike">
                <a:solidFill>
                  <a:srgbClr val="292929"/>
                </a:solidFill>
                <a:latin typeface="Arial"/>
                <a:ea typeface="Arial"/>
              </a:rPr>
              <a:t>s’</a:t>
            </a:r>
            <a:r>
              <a:rPr b="0" lang="zh-CN" sz="2000" spc="-1" strike="noStrike">
                <a:solidFill>
                  <a:srgbClr val="292929"/>
                </a:solidFill>
                <a:latin typeface="Arial"/>
                <a:ea typeface="Arial"/>
              </a:rPr>
              <a:t> on input </a:t>
            </a:r>
            <a:r>
              <a:rPr b="0" i="1" lang="zh-CN" sz="2000" spc="-1" strike="noStrike">
                <a:solidFill>
                  <a:srgbClr val="292929"/>
                </a:solidFill>
                <a:latin typeface="Arial"/>
                <a:ea typeface="Arial"/>
              </a:rPr>
              <a:t>a</a:t>
            </a:r>
            <a:r>
              <a:rPr b="0" lang="zh-CN" sz="2000" spc="-1" strike="noStrike">
                <a:solidFill>
                  <a:srgbClr val="292929"/>
                </a:solidFill>
                <a:latin typeface="Arial"/>
                <a:ea typeface="Arial"/>
              </a:rPr>
              <a:t> under the clock constraint </a:t>
            </a:r>
            <a:r>
              <a:rPr b="0" i="1" lang="el-GR" sz="2000" spc="-1" strike="noStrike">
                <a:solidFill>
                  <a:srgbClr val="292929"/>
                </a:solidFill>
                <a:latin typeface="Arial"/>
                <a:ea typeface="Arial"/>
              </a:rPr>
              <a:t>δ</a:t>
            </a:r>
            <a:r>
              <a:rPr b="0" lang="zh-CN" sz="2000" spc="-1" strike="noStrike">
                <a:solidFill>
                  <a:srgbClr val="292929"/>
                </a:solidFill>
                <a:latin typeface="Arial"/>
                <a:ea typeface="Arial"/>
              </a:rPr>
              <a:t>.  The clocks in </a:t>
            </a:r>
            <a:r>
              <a:rPr b="0" i="1" lang="el-GR" sz="2000" spc="-1" strike="noStrike">
                <a:solidFill>
                  <a:srgbClr val="292929"/>
                </a:solidFill>
                <a:latin typeface="Arial"/>
                <a:ea typeface="Arial"/>
              </a:rPr>
              <a:t>λ</a:t>
            </a:r>
            <a:r>
              <a:rPr b="0" lang="zh-CN" sz="2000" spc="-1" strike="noStrike">
                <a:solidFill>
                  <a:srgbClr val="292929"/>
                </a:solidFill>
                <a:latin typeface="Arial"/>
                <a:ea typeface="Arial"/>
              </a:rPr>
              <a:t> will be reset in the transition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8" name=""/>
              <p:cNvSpPr txBox="1"/>
              <p:nvPr/>
            </p:nvSpPr>
            <p:spPr>
              <a:xfrm>
                <a:off x="2133720" y="4267080"/>
                <a:ext cx="38088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9" name=""/>
              <p:cNvSpPr txBox="1"/>
              <p:nvPr/>
            </p:nvSpPr>
            <p:spPr>
              <a:xfrm>
                <a:off x="2209680" y="350532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0" name=""/>
              <p:cNvSpPr txBox="1"/>
              <p:nvPr/>
            </p:nvSpPr>
            <p:spPr>
              <a:xfrm>
                <a:off x="2514600" y="4267080"/>
                <a:ext cx="205740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×</m:t>
                    </m:r>
                    <m:r>
                      <m:t xml:space="preserve">S</m:t>
                    </m:r>
                    <m:r>
                      <m:t xml:space="preserve">×</m:t>
                    </m:r>
                    <m:r>
                      <m:t xml:space="preserve">Σ</m:t>
                    </m:r>
                    <m:r>
                      <m:t xml:space="preserve">×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C</m:t>
                        </m:r>
                      </m:sup>
                    </m:sSup>
                    <m:r>
                      <m:t xml:space="preserve">×</m:t>
                    </m:r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ecking Properties of 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66ff"/>
                </a:solidFill>
                <a:latin typeface="Arial"/>
              </a:rPr>
              <a:t>Emptiness</a:t>
            </a:r>
            <a:r>
              <a:rPr b="0" lang="zh-CN" sz="2800" spc="-1" strike="noStrike">
                <a:solidFill>
                  <a:srgbClr val="292929"/>
                </a:solidFill>
                <a:latin typeface="Arial"/>
              </a:rPr>
              <a:t> (reachability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29"/>
                </a:solidFill>
                <a:latin typeface="Arial"/>
              </a:rPr>
              <a:t>Decidable, P-Space complet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66ff"/>
                </a:solidFill>
                <a:latin typeface="Arial"/>
              </a:rPr>
              <a:t>Universality</a:t>
            </a:r>
            <a:r>
              <a:rPr b="0" lang="zh-CN" sz="2800" spc="-1" strike="noStrike">
                <a:solidFill>
                  <a:srgbClr val="292929"/>
                </a:solidFill>
                <a:latin typeface="Arial"/>
              </a:rPr>
              <a:t> (negation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29"/>
                </a:solidFill>
                <a:latin typeface="Arial"/>
              </a:rPr>
              <a:t>Undecidabl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Arial"/>
              </a:rPr>
              <a:t>But </a:t>
            </a:r>
            <a:r>
              <a:rPr b="0" lang="zh-CN" sz="2800" spc="-1" strike="noStrike">
                <a:solidFill>
                  <a:srgbClr val="3366ff"/>
                </a:solidFill>
                <a:latin typeface="Arial"/>
              </a:rPr>
              <a:t>deterministic TA</a:t>
            </a:r>
            <a:r>
              <a:rPr b="0" lang="zh-CN" sz="2800" spc="-1" strike="noStrike">
                <a:solidFill>
                  <a:srgbClr val="292929"/>
                </a:solidFill>
                <a:latin typeface="Arial"/>
              </a:rPr>
              <a:t> is </a:t>
            </a:r>
            <a:r>
              <a:rPr b="0" lang="zh-CN" sz="2800" spc="-1" strike="noStrike">
                <a:solidFill>
                  <a:srgbClr val="ff6600"/>
                </a:solidFill>
                <a:latin typeface="Arial"/>
              </a:rPr>
              <a:t>closed</a:t>
            </a:r>
            <a:r>
              <a:rPr b="0" lang="zh-CN" sz="2800" spc="-1" strike="noStrike">
                <a:solidFill>
                  <a:srgbClr val="292929"/>
                </a:solidFill>
                <a:latin typeface="Arial"/>
              </a:rPr>
              <a:t> under all the boolean operation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Arial"/>
              </a:rPr>
              <a:t>Given a system as a collection of TA and a property as a deterministic TA, checking the system satisfies the specification can be done in</a:t>
            </a:r>
            <a:r>
              <a:rPr b="0" lang="zh-CN" sz="2800" spc="-1" strike="noStrike">
                <a:solidFill>
                  <a:srgbClr val="ff6600"/>
                </a:solidFill>
                <a:latin typeface="Arial"/>
              </a:rPr>
              <a:t> P-Spac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r the train-gate system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Safety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: whenever the train is inside the gate, the gate should be closed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1905120" y="4876920"/>
            <a:ext cx="838080" cy="53316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29292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6781680" y="4876920"/>
            <a:ext cx="838440" cy="53316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29292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4419720" y="4876920"/>
            <a:ext cx="838080" cy="53316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29292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1523880" y="5181480"/>
            <a:ext cx="38124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2743200" y="4724280"/>
            <a:ext cx="1676520" cy="304920"/>
          </a:xfrm>
          <a:custGeom>
            <a:avLst/>
            <a:gdLst/>
            <a:ahLst/>
            <a:rect l="l" t="t" r="r" b="b"/>
            <a:pathLst>
              <a:path w="1056" h="192">
                <a:moveTo>
                  <a:pt x="0" y="192"/>
                </a:moveTo>
                <a:cubicBezTo>
                  <a:pt x="176" y="96"/>
                  <a:pt x="352" y="0"/>
                  <a:pt x="528" y="0"/>
                </a:cubicBezTo>
                <a:cubicBezTo>
                  <a:pt x="704" y="0"/>
                  <a:pt x="1040" y="120"/>
                  <a:pt x="1056" y="192"/>
                </a:cubicBezTo>
              </a:path>
            </a:pathLst>
          </a:custGeom>
          <a:noFill/>
          <a:ln w="9360">
            <a:solidFill>
              <a:srgbClr val="29292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5257800" y="4724280"/>
            <a:ext cx="1523880" cy="304920"/>
          </a:xfrm>
          <a:custGeom>
            <a:avLst/>
            <a:gdLst/>
            <a:ahLst/>
            <a:rect l="l" t="t" r="r" b="b"/>
            <a:pathLst>
              <a:path w="960" h="192">
                <a:moveTo>
                  <a:pt x="0" y="192"/>
                </a:moveTo>
                <a:cubicBezTo>
                  <a:pt x="184" y="96"/>
                  <a:pt x="368" y="0"/>
                  <a:pt x="528" y="0"/>
                </a:cubicBezTo>
                <a:cubicBezTo>
                  <a:pt x="688" y="0"/>
                  <a:pt x="824" y="96"/>
                  <a:pt x="960" y="192"/>
                </a:cubicBezTo>
              </a:path>
            </a:pathLst>
          </a:custGeom>
          <a:noFill/>
          <a:ln w="9360">
            <a:solidFill>
              <a:srgbClr val="29292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2743200" y="5257800"/>
            <a:ext cx="1676520" cy="304920"/>
          </a:xfrm>
          <a:custGeom>
            <a:avLst/>
            <a:gdLst/>
            <a:ahLst/>
            <a:rect l="l" t="t" r="r" b="b"/>
            <a:pathLst>
              <a:path w="1056" h="192">
                <a:moveTo>
                  <a:pt x="0" y="0"/>
                </a:moveTo>
                <a:cubicBezTo>
                  <a:pt x="176" y="96"/>
                  <a:pt x="352" y="192"/>
                  <a:pt x="528" y="192"/>
                </a:cubicBezTo>
                <a:cubicBezTo>
                  <a:pt x="704" y="192"/>
                  <a:pt x="880" y="96"/>
                  <a:pt x="1056" y="0"/>
                </a:cubicBezTo>
              </a:path>
            </a:pathLst>
          </a:custGeom>
          <a:noFill/>
          <a:ln w="9360">
            <a:solidFill>
              <a:srgbClr val="29292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5257800" y="5257800"/>
            <a:ext cx="1523880" cy="228600"/>
          </a:xfrm>
          <a:custGeom>
            <a:avLst/>
            <a:gdLst/>
            <a:ahLst/>
            <a:rect l="l" t="t" r="r" b="b"/>
            <a:pathLst>
              <a:path w="912" h="144">
                <a:moveTo>
                  <a:pt x="0" y="0"/>
                </a:moveTo>
                <a:cubicBezTo>
                  <a:pt x="212" y="72"/>
                  <a:pt x="424" y="144"/>
                  <a:pt x="576" y="144"/>
                </a:cubicBezTo>
                <a:cubicBezTo>
                  <a:pt x="728" y="144"/>
                  <a:pt x="820" y="72"/>
                  <a:pt x="912" y="0"/>
                </a:cubicBezTo>
              </a:path>
            </a:pathLst>
          </a:custGeom>
          <a:noFill/>
          <a:ln w="9360">
            <a:solidFill>
              <a:srgbClr val="29292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1828800" y="4343400"/>
            <a:ext cx="914400" cy="533520"/>
          </a:xfrm>
          <a:custGeom>
            <a:avLst/>
            <a:gdLst/>
            <a:ahLst/>
            <a:rect l="l" t="t" r="r" b="b"/>
            <a:pathLst>
              <a:path w="576" h="336">
                <a:moveTo>
                  <a:pt x="240" y="336"/>
                </a:moveTo>
                <a:cubicBezTo>
                  <a:pt x="120" y="216"/>
                  <a:pt x="0" y="96"/>
                  <a:pt x="48" y="48"/>
                </a:cubicBezTo>
                <a:cubicBezTo>
                  <a:pt x="96" y="0"/>
                  <a:pt x="480" y="0"/>
                  <a:pt x="528" y="48"/>
                </a:cubicBezTo>
                <a:cubicBezTo>
                  <a:pt x="576" y="96"/>
                  <a:pt x="456" y="216"/>
                  <a:pt x="336" y="336"/>
                </a:cubicBezTo>
              </a:path>
            </a:pathLst>
          </a:custGeom>
          <a:noFill/>
          <a:ln w="9360">
            <a:solidFill>
              <a:srgbClr val="29292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4330800" y="4267080"/>
            <a:ext cx="888840" cy="609840"/>
          </a:xfrm>
          <a:custGeom>
            <a:avLst/>
            <a:gdLst/>
            <a:ahLst/>
            <a:rect l="l" t="t" r="r" b="b"/>
            <a:pathLst>
              <a:path w="560" h="384">
                <a:moveTo>
                  <a:pt x="200" y="384"/>
                </a:moveTo>
                <a:cubicBezTo>
                  <a:pt x="100" y="296"/>
                  <a:pt x="0" y="208"/>
                  <a:pt x="8" y="144"/>
                </a:cubicBezTo>
                <a:cubicBezTo>
                  <a:pt x="16" y="80"/>
                  <a:pt x="160" y="0"/>
                  <a:pt x="248" y="0"/>
                </a:cubicBezTo>
                <a:cubicBezTo>
                  <a:pt x="336" y="0"/>
                  <a:pt x="512" y="80"/>
                  <a:pt x="536" y="144"/>
                </a:cubicBezTo>
                <a:cubicBezTo>
                  <a:pt x="560" y="208"/>
                  <a:pt x="476" y="296"/>
                  <a:pt x="392" y="384"/>
                </a:cubicBezTo>
              </a:path>
            </a:pathLst>
          </a:custGeom>
          <a:noFill/>
          <a:ln w="9360">
            <a:solidFill>
              <a:srgbClr val="29292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1671840" y="3998880"/>
            <a:ext cx="164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~enter, ~down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2898000" y="4379760"/>
            <a:ext cx="123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down, ~up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034080" y="5446800"/>
            <a:ext cx="12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up, ~enter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4325760" y="3922560"/>
            <a:ext cx="134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~enter, ~up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5624640" y="4379760"/>
            <a:ext cx="12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enter, ~up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5691240" y="54244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exit, ~up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med 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 timed system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is a system whose correctness depends on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timing constraints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Formal analysis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of timed system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Describe systems with tim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pecify properties about tim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heck conformanc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66ff"/>
                </a:solidFill>
                <a:latin typeface="Arial"/>
              </a:rPr>
              <a:t>Realtime liveness</a:t>
            </a:r>
            <a:r>
              <a:rPr b="0" lang="zh-CN" sz="2800" spc="-1" strike="noStrike">
                <a:solidFill>
                  <a:srgbClr val="292929"/>
                </a:solidFill>
                <a:latin typeface="Arial"/>
              </a:rPr>
              <a:t>: the gate is never closed at a stretch for more than 10 minut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1828800" y="4419720"/>
            <a:ext cx="1295280" cy="76176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29292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5486400" y="4419720"/>
            <a:ext cx="1295280" cy="76176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29292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2971800" y="4178160"/>
            <a:ext cx="2590920" cy="393840"/>
          </a:xfrm>
          <a:custGeom>
            <a:avLst/>
            <a:gdLst/>
            <a:ahLst/>
            <a:rect l="l" t="t" r="r" b="b"/>
            <a:pathLst>
              <a:path w="1632" h="248">
                <a:moveTo>
                  <a:pt x="0" y="200"/>
                </a:moveTo>
                <a:cubicBezTo>
                  <a:pt x="296" y="100"/>
                  <a:pt x="592" y="0"/>
                  <a:pt x="864" y="8"/>
                </a:cubicBezTo>
                <a:cubicBezTo>
                  <a:pt x="1136" y="16"/>
                  <a:pt x="1384" y="132"/>
                  <a:pt x="1632" y="248"/>
                </a:cubicBezTo>
              </a:path>
            </a:pathLst>
          </a:custGeom>
          <a:noFill/>
          <a:ln w="9360">
            <a:solidFill>
              <a:srgbClr val="29292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2895480" y="5029200"/>
            <a:ext cx="2667240" cy="393840"/>
          </a:xfrm>
          <a:custGeom>
            <a:avLst/>
            <a:gdLst/>
            <a:ahLst/>
            <a:rect l="l" t="t" r="r" b="b"/>
            <a:pathLst>
              <a:path w="1680" h="248">
                <a:moveTo>
                  <a:pt x="0" y="48"/>
                </a:moveTo>
                <a:cubicBezTo>
                  <a:pt x="316" y="148"/>
                  <a:pt x="632" y="248"/>
                  <a:pt x="912" y="240"/>
                </a:cubicBezTo>
                <a:cubicBezTo>
                  <a:pt x="1192" y="232"/>
                  <a:pt x="1436" y="116"/>
                  <a:pt x="1680" y="0"/>
                </a:cubicBezTo>
              </a:path>
            </a:pathLst>
          </a:custGeom>
          <a:noFill/>
          <a:ln w="9360">
            <a:solidFill>
              <a:srgbClr val="29292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1866960" y="3733920"/>
            <a:ext cx="1054080" cy="685800"/>
          </a:xfrm>
          <a:custGeom>
            <a:avLst/>
            <a:gdLst/>
            <a:ahLst/>
            <a:rect l="l" t="t" r="r" b="b"/>
            <a:pathLst>
              <a:path w="664" h="432">
                <a:moveTo>
                  <a:pt x="216" y="432"/>
                </a:moveTo>
                <a:cubicBezTo>
                  <a:pt x="108" y="324"/>
                  <a:pt x="0" y="216"/>
                  <a:pt x="24" y="144"/>
                </a:cubicBezTo>
                <a:cubicBezTo>
                  <a:pt x="48" y="72"/>
                  <a:pt x="256" y="0"/>
                  <a:pt x="360" y="0"/>
                </a:cubicBezTo>
                <a:cubicBezTo>
                  <a:pt x="464" y="0"/>
                  <a:pt x="632" y="72"/>
                  <a:pt x="648" y="144"/>
                </a:cubicBezTo>
                <a:cubicBezTo>
                  <a:pt x="664" y="216"/>
                  <a:pt x="560" y="324"/>
                  <a:pt x="456" y="432"/>
                </a:cubicBezTo>
              </a:path>
            </a:pathLst>
          </a:custGeom>
          <a:noFill/>
          <a:ln w="9360">
            <a:solidFill>
              <a:srgbClr val="29292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5562720" y="3797280"/>
            <a:ext cx="876240" cy="622440"/>
          </a:xfrm>
          <a:custGeom>
            <a:avLst/>
            <a:gdLst/>
            <a:ahLst/>
            <a:rect l="l" t="t" r="r" b="b"/>
            <a:pathLst>
              <a:path w="552" h="392">
                <a:moveTo>
                  <a:pt x="240" y="392"/>
                </a:moveTo>
                <a:cubicBezTo>
                  <a:pt x="120" y="304"/>
                  <a:pt x="0" y="216"/>
                  <a:pt x="0" y="152"/>
                </a:cubicBezTo>
                <a:cubicBezTo>
                  <a:pt x="0" y="88"/>
                  <a:pt x="152" y="16"/>
                  <a:pt x="240" y="8"/>
                </a:cubicBezTo>
                <a:cubicBezTo>
                  <a:pt x="328" y="0"/>
                  <a:pt x="504" y="40"/>
                  <a:pt x="528" y="104"/>
                </a:cubicBezTo>
                <a:cubicBezTo>
                  <a:pt x="552" y="168"/>
                  <a:pt x="468" y="280"/>
                  <a:pt x="384" y="392"/>
                </a:cubicBezTo>
              </a:path>
            </a:pathLst>
          </a:custGeom>
          <a:noFill/>
          <a:ln w="9360">
            <a:solidFill>
              <a:srgbClr val="29292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1906920" y="3429000"/>
            <a:ext cx="9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~ down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3338640" y="3846600"/>
            <a:ext cx="129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down, x:=0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5564160" y="3505320"/>
            <a:ext cx="63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~ up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3795120" y="5348160"/>
            <a:ext cx="119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up, x &lt; 10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447920" y="4800600"/>
            <a:ext cx="38088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ther Works on 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Arial"/>
              </a:rPr>
              <a:t>Extensions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29"/>
                </a:solidFill>
                <a:latin typeface="Arial"/>
              </a:rPr>
              <a:t>x + y ([Bérard,Dufourd 2000]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29"/>
                </a:solidFill>
                <a:latin typeface="Arial"/>
              </a:rPr>
              <a:t>x – y, Silence action ([Bérard,Diekert,Gastin,Petit 1998]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29"/>
                </a:solidFill>
                <a:latin typeface="Arial"/>
              </a:rPr>
              <a:t>New operations on clocks ([Bouyer,Dufourd,Fleury,Petit 2000]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Arial"/>
              </a:rPr>
              <a:t>Implementation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29"/>
                </a:solidFill>
                <a:latin typeface="Arial"/>
              </a:rPr>
              <a:t>Forward/backward reachability analysi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29"/>
                </a:solidFill>
                <a:latin typeface="Arial"/>
              </a:rPr>
              <a:t>[Alur &amp; Co 1992], [Daws,Yovine 1996], [Larsen,Pettersson,Yi 1997], [Daws,Tripakis 1998], [Tripakis,Yovine 2001]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ibliograph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152280" y="1940040"/>
            <a:ext cx="876312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c9900"/>
                </a:solidFill>
                <a:latin typeface="Arial"/>
              </a:rPr>
              <a:t>[ACD+92]</a:t>
            </a:r>
            <a:r>
              <a:rPr b="0" lang="zh-CN" sz="1600" spc="-1" strike="noStrike">
                <a:solidFill>
                  <a:srgbClr val="292929"/>
                </a:solidFill>
                <a:latin typeface="Arial"/>
              </a:rPr>
              <a:t> Alur, Courcoubetis, Dill, Halbwachs,Wong-Toi. Minimization of Timed Transition  Systems. CONCUR'92 (LNCS 630)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c9900"/>
                </a:solidFill>
                <a:latin typeface="Arial"/>
              </a:rPr>
              <a:t>[AD94]</a:t>
            </a:r>
            <a:r>
              <a:rPr b="0" lang="zh-CN" sz="1600" spc="-1" strike="noStrike">
                <a:solidFill>
                  <a:srgbClr val="292929"/>
                </a:solidFill>
                <a:latin typeface="Arial"/>
              </a:rPr>
              <a:t> Alur, Dill. A Theory of Timed Automata. TCS 126(2), 1994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c9900"/>
                </a:solidFill>
                <a:latin typeface="Arial"/>
              </a:rPr>
              <a:t>[BD00]</a:t>
            </a:r>
            <a:r>
              <a:rPr b="0" lang="zh-CN" sz="1600" spc="-1" strike="noStrike">
                <a:solidFill>
                  <a:srgbClr val="292929"/>
                </a:solidFill>
                <a:latin typeface="Arial"/>
              </a:rPr>
              <a:t> Bérard, Dufourd. Timed Automata and Additive Clock Constraints. IPL 75(1.2), 2000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c9900"/>
                </a:solidFill>
                <a:latin typeface="Arial"/>
              </a:rPr>
              <a:t>[BDFP00a]</a:t>
            </a:r>
            <a:r>
              <a:rPr b="0" lang="zh-CN" sz="1600" spc="-1" strike="noStrike">
                <a:solidFill>
                  <a:srgbClr val="292929"/>
                </a:solidFill>
                <a:latin typeface="Arial"/>
              </a:rPr>
              <a:t> Bouyer, Dufourd, Fleury, Petit. Are Timed Automata Updatable? CAV'00 (LNCS 1855)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c9900"/>
                </a:solidFill>
                <a:latin typeface="Arial"/>
              </a:rPr>
              <a:t>[BDFP00b]</a:t>
            </a:r>
            <a:r>
              <a:rPr b="0" lang="zh-CN" sz="1600" spc="-1" strike="noStrike">
                <a:solidFill>
                  <a:srgbClr val="292929"/>
                </a:solidFill>
                <a:latin typeface="Arial"/>
              </a:rPr>
              <a:t> Bouyer, Dufourd, Fleury, Petit. Expressiveness of Updatable Timed Automata. MFCS'00 (LNCS 1893)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c9900"/>
                </a:solidFill>
                <a:latin typeface="Arial"/>
              </a:rPr>
              <a:t>[BDGP98]</a:t>
            </a:r>
            <a:r>
              <a:rPr b="0" lang="zh-CN" sz="1600" spc="-1" strike="noStrike">
                <a:solidFill>
                  <a:srgbClr val="292929"/>
                </a:solidFill>
                <a:latin typeface="Arial"/>
              </a:rPr>
              <a:t> Bérard, Diekert, Gastin, Petit. Characterization of the Expressive Power of Silent Transitions in Timed Automata. Fundamenta Informaticae 36(2.3), 1998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c9900"/>
                </a:solidFill>
                <a:latin typeface="Arial"/>
              </a:rPr>
              <a:t>[Bouyer03]</a:t>
            </a:r>
            <a:r>
              <a:rPr b="0" lang="zh-CN" sz="1600" spc="-1" strike="noStrike">
                <a:solidFill>
                  <a:srgbClr val="292929"/>
                </a:solidFill>
                <a:latin typeface="Arial"/>
              </a:rPr>
              <a:t> Bouyer. Untameable Timed Automata! To appear in STACS'03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c9900"/>
                </a:solidFill>
                <a:latin typeface="Arial"/>
              </a:rPr>
              <a:t>[DT98]</a:t>
            </a:r>
            <a:r>
              <a:rPr b="0" lang="zh-CN" sz="1600" spc="-1" strike="noStrike">
                <a:solidFill>
                  <a:srgbClr val="292929"/>
                </a:solidFill>
                <a:latin typeface="Arial"/>
              </a:rPr>
              <a:t> Daws, Tripakis. Model-Checking of Real-Time Reachability Properties using Abstractions. TACAS'98 (LNCS 1384)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c9900"/>
                </a:solidFill>
                <a:latin typeface="Arial"/>
              </a:rPr>
              <a:t>[DY96]</a:t>
            </a:r>
            <a:r>
              <a:rPr b="0" lang="zh-CN" sz="1600" spc="-1" strike="noStrike">
                <a:solidFill>
                  <a:srgbClr val="292929"/>
                </a:solidFill>
                <a:latin typeface="Arial"/>
              </a:rPr>
              <a:t> Daws, Yovine. Reducing the Number of Clock Variables of Timed Automata. RTSS'96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c9900"/>
                </a:solidFill>
                <a:latin typeface="Arial"/>
              </a:rPr>
              <a:t>[LPY97]</a:t>
            </a:r>
            <a:r>
              <a:rPr b="0" lang="zh-CN" sz="1600" spc="-1" strike="noStrike">
                <a:solidFill>
                  <a:srgbClr val="292929"/>
                </a:solidFill>
                <a:latin typeface="Arial"/>
              </a:rPr>
              <a:t> Larsen, Pettersson, Yi. UPPAAL in a Nutshell. Software Tools for Technology Transfer 1(1.2), 1997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2971800" y="2819520"/>
            <a:ext cx="3962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29"/>
                </a:solidFill>
                <a:latin typeface="Arial"/>
              </a:rPr>
              <a:t>Thank you! 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29"/>
                </a:solidFill>
                <a:latin typeface="Arial"/>
              </a:rPr>
              <a:t>And Questions?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ing Ti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Semantic Model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: tim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Discrete time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: integer (RTL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Dense Time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: positive real (Timed Automata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Dense time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Natural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for physical tim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Independent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of a specific time unit or time granularity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Infinite state space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. But there exist methods reduce the infinite concrete state space to finite abstract state spac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med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66ff"/>
                </a:solidFill>
                <a:latin typeface="Arial"/>
              </a:rPr>
              <a:t>A timed automata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29"/>
                </a:solidFill>
                <a:latin typeface="Arial"/>
              </a:rPr>
              <a:t>Alur, Dill. A Theory of Timed Automata. TCS 126(2), 1994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29"/>
                </a:solidFill>
                <a:latin typeface="Arial"/>
              </a:rPr>
              <a:t>Is a 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non-deterministic</a:t>
            </a:r>
            <a:r>
              <a:rPr b="0" lang="zh-CN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finite-state</a:t>
            </a:r>
            <a:r>
              <a:rPr b="0" lang="zh-CN" sz="2400" spc="-1" strike="noStrike">
                <a:solidFill>
                  <a:srgbClr val="292929"/>
                </a:solidFill>
                <a:latin typeface="Arial"/>
              </a:rPr>
              <a:t> automata extended with a finite number of real-valued </a:t>
            </a:r>
            <a:r>
              <a:rPr b="0" lang="zh-CN" sz="2400" spc="-1" strike="noStrike">
                <a:solidFill>
                  <a:srgbClr val="0066ff"/>
                </a:solidFill>
                <a:latin typeface="Arial"/>
              </a:rPr>
              <a:t>clocks</a:t>
            </a:r>
            <a:r>
              <a:rPr b="0" lang="zh-CN" sz="24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2929"/>
                </a:solidFill>
                <a:latin typeface="Arial"/>
              </a:rPr>
              <a:t>Alternates between two modes of execution, letting time pass continuously, then taking a step changing its discrete state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581280" y="2514600"/>
            <a:ext cx="68580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29292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343400" y="2514600"/>
            <a:ext cx="68580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29292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048120" y="2514600"/>
            <a:ext cx="45720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29292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00400" y="25146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a,  x ≤ 5,  x := 0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little more about 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48960" y="4267080"/>
            <a:ext cx="76611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92929"/>
                </a:solidFill>
                <a:latin typeface="Arial"/>
                <a:ea typeface="Arial"/>
              </a:rPr>
              <a:t>A </a:t>
            </a:r>
            <a:r>
              <a:rPr b="0" lang="zh-CN" sz="3200" spc="-1" strike="noStrike">
                <a:solidFill>
                  <a:srgbClr val="3366ff"/>
                </a:solidFill>
                <a:latin typeface="Arial"/>
                <a:ea typeface="Arial"/>
              </a:rPr>
              <a:t>clock constraint</a:t>
            </a:r>
            <a:r>
              <a:rPr b="0" lang="zh-CN" sz="3200" spc="-1" strike="noStrike">
                <a:solidFill>
                  <a:srgbClr val="292929"/>
                </a:solidFill>
                <a:latin typeface="Arial"/>
                <a:ea typeface="Arial"/>
              </a:rPr>
              <a:t> </a:t>
            </a:r>
            <a:r>
              <a:rPr b="0" lang="el-GR" sz="3200" spc="-1" strike="noStrike">
                <a:solidFill>
                  <a:srgbClr val="292929"/>
                </a:solidFill>
                <a:latin typeface="Arial"/>
                <a:ea typeface="Arial"/>
              </a:rPr>
              <a:t>δ</a:t>
            </a:r>
            <a:r>
              <a:rPr b="0" lang="zh-CN" sz="3200" spc="-1" strike="noStrike">
                <a:solidFill>
                  <a:srgbClr val="292929"/>
                </a:solidFill>
                <a:latin typeface="Arial"/>
                <a:ea typeface="Arial"/>
              </a:rPr>
              <a:t> i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Arial"/>
                <a:ea typeface="Arial"/>
              </a:rPr>
              <a:t>X ≤ c | c ≤ X | ¬</a:t>
            </a:r>
            <a:r>
              <a:rPr b="0" lang="el-GR" sz="2800" spc="-1" strike="noStrike">
                <a:solidFill>
                  <a:srgbClr val="292929"/>
                </a:solidFill>
                <a:latin typeface="Arial"/>
                <a:ea typeface="Arial"/>
              </a:rPr>
              <a:t>δ</a:t>
            </a:r>
            <a:r>
              <a:rPr b="0" lang="zh-CN" sz="2800" spc="-1" strike="noStrike">
                <a:solidFill>
                  <a:srgbClr val="292929"/>
                </a:solidFill>
                <a:latin typeface="Arial"/>
                <a:ea typeface="Arial"/>
              </a:rPr>
              <a:t> | </a:t>
            </a:r>
            <a:r>
              <a:rPr b="0" lang="el-GR" sz="2800" spc="-1" strike="noStrike">
                <a:solidFill>
                  <a:srgbClr val="292929"/>
                </a:solidFill>
                <a:latin typeface="Arial"/>
                <a:ea typeface="Arial"/>
              </a:rPr>
              <a:t>δ</a:t>
            </a:r>
            <a:r>
              <a:rPr b="0" lang="zh-CN" sz="2800" spc="-1" strike="noStrike" baseline="-25000">
                <a:solidFill>
                  <a:srgbClr val="292929"/>
                </a:solidFill>
                <a:latin typeface="Arial"/>
                <a:ea typeface="Arial"/>
              </a:rPr>
              <a:t>1 </a:t>
            </a:r>
            <a:r>
              <a:rPr b="0" i="1" lang="zh-CN" sz="2800" spc="-1" strike="noStrike">
                <a:solidFill>
                  <a:srgbClr val="292929"/>
                </a:solidFill>
                <a:latin typeface="Arial"/>
                <a:ea typeface="Arial"/>
              </a:rPr>
              <a:t>&amp; </a:t>
            </a:r>
            <a:r>
              <a:rPr b="0" lang="el-GR" sz="2800" spc="-1" strike="noStrike">
                <a:solidFill>
                  <a:srgbClr val="292929"/>
                </a:solidFill>
                <a:latin typeface="Arial"/>
                <a:ea typeface="Arial"/>
              </a:rPr>
              <a:t>δ</a:t>
            </a:r>
            <a:r>
              <a:rPr b="0" lang="zh-CN" sz="2800" spc="-1" strike="noStrike" baseline="-25000">
                <a:solidFill>
                  <a:srgbClr val="292929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676520" y="2666880"/>
            <a:ext cx="1295280" cy="6098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29292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410080" y="2666880"/>
            <a:ext cx="1295640" cy="6098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29292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cxnSp>
        <p:nvCxnSpPr>
          <p:cNvPr id="115" name=""/>
          <p:cNvCxnSpPr>
            <a:stCxn id="113" idx="6"/>
            <a:endCxn id="114" idx="2"/>
          </p:cNvCxnSpPr>
          <p:nvPr/>
        </p:nvCxnSpPr>
        <p:spPr>
          <a:xfrm>
            <a:off x="2971440" y="2971440"/>
            <a:ext cx="2439000" cy="1080"/>
          </a:xfrm>
          <a:prstGeom prst="straightConnector1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1815480" y="182880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Input symbo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584160" y="1828800"/>
            <a:ext cx="180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Clock constraint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82360" y="346536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Clock reset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90920" y="2209680"/>
            <a:ext cx="533160" cy="30492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885840" y="2133720"/>
            <a:ext cx="228600" cy="38088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4800240" y="2895480"/>
            <a:ext cx="152280" cy="60984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 a 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 system can be </a:t>
            </a: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a collection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of timed automat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omponents proceed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in parall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Time and messages are assumed to pass</a:t>
            </a: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synchronously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or all componen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The informal specification of system can be stated as follows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The train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ends a signal to the controller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at least 2 minutes before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it enters the crossing,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Exits the crossing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no more than 5 minutes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after sending the approaching signal and sends another signal to the controller upon existing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The controller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commands the gate to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Lower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exactly 1 minute after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receiving the approaching signal from the train,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80000"/>
              </a:lnSpc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Rise again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no more than 1 minute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after receiving the existing signal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The gate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takes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less than 1 minute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to come down and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between 1 and 2 minutes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to come up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7772760" y="409896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Gat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47920" y="493704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19320" y="2498760"/>
            <a:ext cx="38088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09680" y="348948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24080" y="249876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675800" y="204156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44080" y="295596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xi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91080" y="211788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fa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72160" y="211788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nea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16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x &lt;= 5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048120" y="295596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nt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04760" y="257508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x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6880" y="409896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Trai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819520" y="326088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x &gt; 2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600200" y="2651040"/>
            <a:ext cx="152388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2590560" y="2879640"/>
            <a:ext cx="685800" cy="76212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1447920" y="2879280"/>
            <a:ext cx="761760" cy="76212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504040" y="3413160"/>
            <a:ext cx="38880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59600" y="3413160"/>
            <a:ext cx="38880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059600" y="2346480"/>
            <a:ext cx="38880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504040" y="2346480"/>
            <a:ext cx="38880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049080" y="20415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ow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238880" y="26668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dow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878000" y="24382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up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048720" y="326088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ais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048000" y="242244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y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246800" y="295596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y &lt;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570920" y="304812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&amp; y &lt;= 2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803120" y="274320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y &gt;=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048000" y="364176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y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892840" y="2498760"/>
            <a:ext cx="116676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292880" y="272736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5892480" y="3641760"/>
            <a:ext cx="116676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5659560" y="272700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2041560"/>
            <a:ext cx="3657600" cy="205740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373000" y="4876920"/>
            <a:ext cx="7902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ow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z = 1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268160" y="547056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xi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61800" y="425124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991240" y="5181480"/>
            <a:ext cx="81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z &lt;= 1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657600" y="5622840"/>
            <a:ext cx="38088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81480" y="5622840"/>
            <a:ext cx="38124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81480" y="455616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4556160"/>
            <a:ext cx="38088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048480" y="487692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ais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190400" y="463248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z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190400" y="585144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z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038480" y="4708440"/>
            <a:ext cx="114300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410080" y="493704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4038120" y="5851440"/>
            <a:ext cx="114300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3809880" y="493668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819520" y="4251240"/>
            <a:ext cx="3657600" cy="198144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2041560"/>
            <a:ext cx="3429000" cy="205740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med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10040" y="379404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029920" y="198108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ope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91880" y="365760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closed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7772760" y="350028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Gat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447920" y="433872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219320" y="1900080"/>
            <a:ext cx="38088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209680" y="289080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1900080"/>
            <a:ext cx="38124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144080" y="23572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xi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991080" y="151920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fa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972160" y="1519200"/>
            <a:ext cx="6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nea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210040" y="321156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048120" y="23572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nt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904760" y="197640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x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86880" y="3500280"/>
            <a:ext cx="76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Trai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19520" y="266220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x &gt; 2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2052720"/>
            <a:ext cx="152388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590560" y="2281320"/>
            <a:ext cx="685800" cy="76176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1447920" y="2281320"/>
            <a:ext cx="761760" cy="76176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504040" y="2814480"/>
            <a:ext cx="38880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059600" y="2814480"/>
            <a:ext cx="38880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059600" y="1747800"/>
            <a:ext cx="38880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504040" y="1747800"/>
            <a:ext cx="38880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9080" y="14428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ow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238880" y="20844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dow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954320" y="20080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up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048720" y="266220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ais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048000" y="182412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y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803120" y="228132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y &gt;=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048000" y="304308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y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892840" y="1900080"/>
            <a:ext cx="116676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292880" y="212868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5892480" y="3043080"/>
            <a:ext cx="116676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5659560" y="212832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648320" y="1442880"/>
            <a:ext cx="3657600" cy="205740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380920" y="42940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ow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268160" y="48718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xi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961800" y="365292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657600" y="5024520"/>
            <a:ext cx="38088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181480" y="5024520"/>
            <a:ext cx="381240" cy="38088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181480" y="3957480"/>
            <a:ext cx="38124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657600" y="3957480"/>
            <a:ext cx="380880" cy="38124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075480" y="429408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ais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190400" y="403380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z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190400" y="5253120"/>
            <a:ext cx="8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z := 0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038480" y="4110120"/>
            <a:ext cx="114300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410080" y="433872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4038120" y="5253120"/>
            <a:ext cx="114300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809880" y="4338360"/>
            <a:ext cx="0" cy="68580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19520" y="3652920"/>
            <a:ext cx="3657600" cy="198108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90720" y="1442880"/>
            <a:ext cx="3429000" cy="2057400"/>
          </a:xfrm>
          <a:prstGeom prst="rect">
            <a:avLst/>
          </a:prstGeom>
          <a:noFill/>
          <a:ln cap="rnd" w="9360">
            <a:solidFill>
              <a:srgbClr val="29292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733920" y="4033800"/>
            <a:ext cx="228600" cy="228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295280" y="1976400"/>
            <a:ext cx="228600" cy="228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562720" y="1824120"/>
            <a:ext cx="228600" cy="228600"/>
          </a:xfrm>
          <a:prstGeom prst="ellipse">
            <a:avLst/>
          </a:prstGeom>
          <a:solidFill>
            <a:srgbClr val="292929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5800" y="144288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pproach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905120" y="174780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410080" y="4522680"/>
            <a:ext cx="74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z =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990720" y="2541600"/>
            <a:ext cx="16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x &lt;= 5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558320" y="252576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&amp; y &lt;= 2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246800" y="231300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y &lt; 1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953600" y="13827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ope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315560" y="305928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closed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048480" y="4613400"/>
            <a:ext cx="81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z &lt;= 1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09680" y="6308640"/>
            <a:ext cx="1143000" cy="0"/>
          </a:xfrm>
          <a:prstGeom prst="line">
            <a:avLst/>
          </a:prstGeom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09680" y="6384960"/>
            <a:ext cx="8205840" cy="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31680" y="96840"/>
            <a:ext cx="715788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eng Chen</cp:lastModifiedBy>
  <dcterms:modified xsi:type="dcterms:W3CDTF">2006-07-31T18:44:22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